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4.png" ContentType="image/png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6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40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17.jpeg" ContentType="image/jpeg"/>
  <Override PartName="/ppt/media/image12.gif" ContentType="image/gif"/>
  <Override PartName="/ppt/media/image47.jpeg" ContentType="image/jpeg"/>
  <Override PartName="/ppt/media/image4.png" ContentType="image/png"/>
  <Override PartName="/ppt/media/image48.png" ContentType="image/png"/>
  <Override PartName="/ppt/media/image10.gif" ContentType="image/gif"/>
  <Override PartName="/ppt/media/image13.png" ContentType="image/png"/>
  <Override PartName="/ppt/media/image51.jpeg" ContentType="image/jpeg"/>
  <Override PartName="/ppt/media/image11.gif" ContentType="image/gif"/>
  <Override PartName="/ppt/media/image9.gif" ContentType="image/gif"/>
  <Override PartName="/ppt/media/image39.jpeg" ContentType="image/jpe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9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F36-36ED-491A-99BB-B89E44B7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1A2-06E5-4250-9C19-70E1B52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E19-CDA4-424D-A6FA-6F72E77E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603-B746-4806-BD47-BD38FD01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22F-6D32-47BF-ACE7-EB3DB978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138A-930E-4CE1-9984-4B393018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40E-4B95-4462-AC51-B44F9B35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0C23-AA8D-4F68-87D5-3E4C24E3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5424-9883-4A38-8EF9-F14F862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8422-92F3-4CDA-9883-18FBAD95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652D-4BC0-4FAA-BD49-5EACCFB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92F-F4C1-47F9-965B-D843D52B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CE80-2459-4A0C-A5C4-5B2FE5F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0F88-BB75-47F5-81A3-D74C3EC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7A2E-AA6F-4529-BAE9-4B7EC6BF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F86F-25A1-4DBE-B01C-0F7F666F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FCB1-C7C5-4ABE-B0A0-08B58593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BFC-1FED-40DB-B581-640164F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9E7-3200-4053-8091-D50FBCD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A01-EC2D-4CDB-B80C-60872694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EE8-E59A-4A53-A980-5BBE1D88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711-987E-4408-9262-E4FAEE2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2F3-CF8A-40BC-9BEF-C3133A6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809-6654-47FA-AF5B-EE6E8C9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835-3EA9-4A50-A6BE-05B85FC89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C409-6139-472E-9869-36C531CB0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5" descr=""/>
          <p:cNvPicPr/>
          <p:nvPr/>
        </p:nvPicPr>
        <p:blipFill>
          <a:blip r:embed="rId2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Стартовая площадка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1763640" y="26028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ТИВНОЕ ДВИЖЕНИЕ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ЕТЫ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5014080" y="55720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Урок физики в 9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1090440" y="639612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читель физики: Осипова Ирина Евген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286200"/>
            <a:ext cx="403236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На принципе реактивного движения 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основано вращение 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357280"/>
            <a:ext cx="4788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ЕГНЕРО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КО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Изображение 164"/>
          <p:cNvPicPr/>
          <p:nvPr/>
        </p:nvPicPr>
        <p:blipFill>
          <a:blip r:embed="rId2"/>
          <a:stretch/>
        </p:blipFill>
        <p:spPr>
          <a:xfrm>
            <a:off x="5429160" y="1608120"/>
            <a:ext cx="3936960" cy="524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2071800" y="3997440"/>
            <a:ext cx="28573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684360" y="40464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активное движение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движение тела, возникающее в результате выброса им вещества  или при отделении от него с какой-либо скоростью его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сканирование0001"/>
          <p:cNvPicPr/>
          <p:nvPr/>
        </p:nvPicPr>
        <p:blipFill>
          <a:blip r:embed="rId2"/>
          <a:srcRect l="1816" t="1495" r="1579" b="3099"/>
          <a:stretch/>
        </p:blipFill>
        <p:spPr>
          <a:xfrm>
            <a:off x="2411280" y="2637000"/>
            <a:ext cx="489600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857160" y="1214280"/>
            <a:ext cx="69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Arial"/>
              </a:rPr>
              <a:t>Из истории развития реактивного дви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5334120" y="3743280"/>
            <a:ext cx="232704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imp3"/>
          <p:cNvPicPr/>
          <p:nvPr/>
        </p:nvPicPr>
        <p:blipFill>
          <a:blip r:embed="rId2"/>
          <a:stretch/>
        </p:blipFill>
        <p:spPr>
          <a:xfrm>
            <a:off x="2514600" y="4229280"/>
            <a:ext cx="4648320" cy="26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609480" y="45756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 конце первого тысячелетия нашей эры в Китае использовали реактивное движение, которое приводило в действие ракеты - бамбуковые трубки, начиненные порохом, они использовались как заба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дин из первых проектов автомобилей был также с реактивным двигателем и принадлежал этот проект Ньютон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143680" y="304920"/>
            <a:ext cx="361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вым проектом пилотируемой ракеты был в 1881 году проект ракеты с пороховым двигателем известного революционера Николая Ивановича Кибальчича (1853-188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42960" y="435780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удучи осужденным царским судом за участие в убийстве императора Александра II, Кибальчич в камере смертников за 10 дней до казни подал администации тюрьмы записку с описанием своего изобретения. Но царские чиновники скрыли от ученых этот проект. О нем стало известно только в 1916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434340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активное движение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86120" y="1142640"/>
            <a:ext cx="5113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еактив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спользу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люс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ьминогами,кальмар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катицами, мед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альмар засасывает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утрь мантийной полости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тем резко выбрас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рую воды через уз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пло.Он способен раз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ать скорость до 60 –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м/ч. Недаром кальм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зыва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живой торпедой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?id=4025368&amp;tov=6"/>
          <p:cNvPicPr/>
          <p:nvPr/>
        </p:nvPicPr>
        <p:blipFill>
          <a:blip r:embed="rId2"/>
          <a:stretch/>
        </p:blipFill>
        <p:spPr>
          <a:xfrm>
            <a:off x="0" y="4286160"/>
            <a:ext cx="3720960" cy="2571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i?id=52845984&amp;tov=4"/>
          <p:cNvPicPr/>
          <p:nvPr/>
        </p:nvPicPr>
        <p:blipFill>
          <a:blip r:embed="rId3"/>
          <a:stretch/>
        </p:blipFill>
        <p:spPr>
          <a:xfrm>
            <a:off x="142920" y="1214280"/>
            <a:ext cx="271476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24784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692280"/>
            <a:ext cx="7775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реактивного движения можно обнаружить и в мире животных и растений. Например, созревшие плоды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"бешеного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гур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самом легком прикосновении отскакивают от плодоножки и из образовавшегося отверстия выбрасывается фонтаном со скоростью 10 м/с горькая жидкость с семенами сами огурцы при этом отлетают в противоположном направлении. Стреляет "бешеный" огурец (иначе его называют "дамский пистолет") 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на 12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60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21600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5"/>
          <a:stretch/>
        </p:blipFill>
        <p:spPr>
          <a:xfrm>
            <a:off x="1979640" y="0"/>
            <a:ext cx="482436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Принцип реактивного движения находит широкое практическое применение в авиации и космонав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2"/>
          <a:stretch/>
        </p:blipFill>
        <p:spPr>
          <a:xfrm>
            <a:off x="0" y="1571760"/>
            <a:ext cx="3500280" cy="255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1066533731"/>
          <p:cNvPicPr/>
          <p:nvPr/>
        </p:nvPicPr>
        <p:blipFill>
          <a:blip r:embed="rId3"/>
          <a:stretch/>
        </p:blipFill>
        <p:spPr>
          <a:xfrm>
            <a:off x="6148440" y="3714840"/>
            <a:ext cx="29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Картинка 2 из 13820"/>
          <p:cNvPicPr/>
          <p:nvPr/>
        </p:nvPicPr>
        <p:blipFill>
          <a:blip r:embed="rId4"/>
          <a:stretch/>
        </p:blipFill>
        <p:spPr>
          <a:xfrm>
            <a:off x="0" y="4290840"/>
            <a:ext cx="3657600" cy="2567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saturn5"/>
          <p:cNvPicPr/>
          <p:nvPr/>
        </p:nvPicPr>
        <p:blipFill>
          <a:blip r:embed="rId5"/>
          <a:stretch/>
        </p:blipFill>
        <p:spPr>
          <a:xfrm>
            <a:off x="3714840" y="1752480"/>
            <a:ext cx="23572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еты - нос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ассмотрим вопрос об устройстве и запуске так называемых ракет – носителей, т.е. ракет, предназначенных для вывода в космос искусственных спутников Земли, космических кораблей, автоматических межпланетных станций и других полезных гру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5" descr=""/>
          <p:cNvPicPr/>
          <p:nvPr/>
        </p:nvPicPr>
        <p:blipFill>
          <a:blip r:embed="rId2"/>
          <a:stretch/>
        </p:blipFill>
        <p:spPr>
          <a:xfrm>
            <a:off x="-6480" y="2451240"/>
            <a:ext cx="7772400" cy="828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понятие реактивного дви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устройство рак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применение закона сохранения импульса для реактив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цип действия ра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u  +  m v = 0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26920" y="1827360"/>
            <a:ext cx="4897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асса газов,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асса ракет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корость истечения газ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скорость ра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29120" y="3141000"/>
            <a:ext cx="94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302580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304920" y="304920"/>
            <a:ext cx="396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Ракет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7"/>
          <p:cNvPicPr/>
          <p:nvPr/>
        </p:nvPicPr>
        <p:blipFill>
          <a:blip r:embed="rId2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Group 27"/>
          <p:cNvGrpSpPr/>
          <p:nvPr/>
        </p:nvGrpSpPr>
        <p:grpSpPr>
          <a:xfrm>
            <a:off x="6172200" y="0"/>
            <a:ext cx="1828800" cy="990360"/>
            <a:chOff x="6172200" y="0"/>
            <a:chExt cx="1828800" cy="990360"/>
          </a:xfrm>
        </p:grpSpPr>
        <p:sp>
          <p:nvSpPr>
            <p:cNvPr id="178" name="Line 7"/>
            <p:cNvSpPr/>
            <p:nvPr/>
          </p:nvSpPr>
          <p:spPr>
            <a:xfrm flipV="1">
              <a:off x="8001000" y="228240"/>
              <a:ext cx="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6172200" y="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</a:rPr>
                <a:t>Р рак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6"/>
          <p:cNvSpPr/>
          <p:nvPr/>
        </p:nvSpPr>
        <p:spPr>
          <a:xfrm>
            <a:off x="1752480" y="320040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28600" y="1219320"/>
            <a:ext cx="426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газа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г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533520" y="2438280"/>
            <a:ext cx="3751920" cy="1625760"/>
            <a:chOff x="533520" y="2438280"/>
            <a:chExt cx="3751920" cy="1625760"/>
          </a:xfrm>
        </p:grpSpPr>
        <p:sp>
          <p:nvSpPr>
            <p:cNvPr id="183" name="Rectangle 13"/>
            <p:cNvSpPr/>
            <p:nvPr/>
          </p:nvSpPr>
          <p:spPr>
            <a:xfrm>
              <a:off x="533520" y="2811600"/>
              <a:ext cx="150948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υ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Times New Roman"/>
                </a:rPr>
                <a:t>р 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1676520" y="2438280"/>
              <a:ext cx="147456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Times New Roman"/>
                </a:rPr>
                <a:t>газ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1978920" y="3276720"/>
              <a:ext cx="94896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М 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3166200" y="2811600"/>
              <a:ext cx="111924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υ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Times New Roman"/>
                </a:rPr>
                <a:t>газ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7543800" y="5334120"/>
            <a:ext cx="1219320" cy="992880"/>
            <a:chOff x="7543800" y="5334120"/>
            <a:chExt cx="1219320" cy="992880"/>
          </a:xfrm>
        </p:grpSpPr>
        <p:sp>
          <p:nvSpPr>
            <p:cNvPr id="188" name="Text Box 8"/>
            <p:cNvSpPr/>
            <p:nvPr/>
          </p:nvSpPr>
          <p:spPr>
            <a:xfrm>
              <a:off x="7543800" y="5867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</a:rPr>
                <a:t>Р га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>
              <a:off x="8077320" y="533412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1"/>
          <p:cNvGrpSpPr/>
          <p:nvPr/>
        </p:nvGrpSpPr>
        <p:grpSpPr>
          <a:xfrm>
            <a:off x="0" y="4267080"/>
            <a:ext cx="4343400" cy="2094840"/>
            <a:chOff x="0" y="4267080"/>
            <a:chExt cx="4343400" cy="2094840"/>
          </a:xfrm>
        </p:grpSpPr>
        <p:sp>
          <p:nvSpPr>
            <p:cNvPr id="191" name="Text Box 28"/>
            <p:cNvSpPr/>
            <p:nvPr/>
          </p:nvSpPr>
          <p:spPr>
            <a:xfrm>
              <a:off x="380880" y="4267080"/>
              <a:ext cx="3962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аза = 2000 м/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39"/>
            <p:cNvGrpSpPr/>
            <p:nvPr/>
          </p:nvGrpSpPr>
          <p:grpSpPr>
            <a:xfrm>
              <a:off x="0" y="4800600"/>
              <a:ext cx="3352320" cy="1561320"/>
              <a:chOff x="0" y="4800600"/>
              <a:chExt cx="3352320" cy="1561320"/>
            </a:xfrm>
          </p:grpSpPr>
          <p:sp>
            <p:nvSpPr>
              <p:cNvPr id="193" name="Rectangle 40"/>
              <p:cNvSpPr/>
              <p:nvPr/>
            </p:nvSpPr>
            <p:spPr>
              <a:xfrm>
                <a:off x="0" y="5153400"/>
                <a:ext cx="1471320" cy="49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41"/>
              <p:cNvSpPr/>
              <p:nvPr/>
            </p:nvSpPr>
            <p:spPr>
              <a:xfrm>
                <a:off x="1160280" y="4800600"/>
                <a:ext cx="1266840" cy="78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r>
                  <a:rPr b="1" lang="ru-RU" sz="4000" spc="-1" strike="noStrike" baseline="-25000">
                    <a:solidFill>
                      <a:srgbClr val="ff0000"/>
                    </a:solidFill>
                    <a:latin typeface="Times New Roman"/>
                  </a:rPr>
                  <a:t>газа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2"/>
              <p:cNvSpPr/>
              <p:nvPr/>
            </p:nvSpPr>
            <p:spPr>
              <a:xfrm>
                <a:off x="1005840" y="5504040"/>
                <a:ext cx="131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43"/>
              <p:cNvSpPr/>
              <p:nvPr/>
            </p:nvSpPr>
            <p:spPr>
              <a:xfrm>
                <a:off x="1238040" y="5574600"/>
                <a:ext cx="2114280" cy="78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М </a:t>
                </a:r>
                <a:r>
                  <a:rPr b="1" lang="ru-RU" sz="4000" spc="-1" strike="noStrike" baseline="-25000">
                    <a:solidFill>
                      <a:srgbClr val="ff0000"/>
                    </a:solidFill>
                    <a:latin typeface="Times New Roman"/>
                  </a:rPr>
                  <a:t>р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4"/>
              <p:cNvSpPr/>
              <p:nvPr/>
            </p:nvSpPr>
            <p:spPr>
              <a:xfrm>
                <a:off x="2364480" y="5259240"/>
                <a:ext cx="177120" cy="50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53"/>
            <p:cNvSpPr/>
            <p:nvPr/>
          </p:nvSpPr>
          <p:spPr>
            <a:xfrm>
              <a:off x="2362320" y="5257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= 5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6104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Работа одноступенчатой рак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ую массу ракеты составляет топливо с окислителем (окислитель нужен для поддержки горения топли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ливо с окислителем с помощью насосов попадают в камеру сгор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ливо, сгорая, превращаются в газ высокой температуры и высокого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 мощной струёй устремляется наружу через СО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начение сопла – повысить скорость стру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этой скорости зависит скорость р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http://www.perviypolet.ru/img/shapka.gif"/>
          <p:cNvPicPr/>
          <p:nvPr/>
        </p:nvPicPr>
        <p:blipFill>
          <a:blip r:embed="rId2"/>
          <a:stretch/>
        </p:blipFill>
        <p:spPr>
          <a:xfrm>
            <a:off x="755640" y="1341360"/>
            <a:ext cx="7993080" cy="5516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кет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9720" y="1071360"/>
            <a:ext cx="75438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be0e3"/>
                </a:solidFill>
                <a:latin typeface="Arial"/>
              </a:rPr>
              <a:t>Одноступенча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cc00"/>
                </a:solidFill>
                <a:latin typeface="Arial"/>
              </a:rPr>
              <a:t>Многоступенча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14960" y="856800"/>
            <a:ext cx="392904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трехступенча-той рак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http://festival.1september.ru/articles/595505/img12.jpg"/>
          <p:cNvPicPr/>
          <p:nvPr/>
        </p:nvPicPr>
        <p:blipFill>
          <a:blip r:embed="rId2"/>
          <a:stretch/>
        </p:blipFill>
        <p:spPr>
          <a:xfrm>
            <a:off x="285840" y="285840"/>
            <a:ext cx="4230720" cy="5472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3348000" y="522936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5715000" y="4786200"/>
            <a:ext cx="3429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УПЕНЬ –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 ракеты, которая содержит баки с горючим , окислителем и двиг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Работа многоступенчатой рак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40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топливо и окислитель первой ступени будут израсходованы, эта ступень автоматически отбрасывается и в действие вступает двигатель второй ступен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меньшение общей массы ракеты путем отбрасывания уже ненужной ступени позволяет сэкономить топливо и окислитель, и увеличить скорость ракеты. Затем таким же образом отбрасывается вторая сту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569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озвращение космического корабля на Землю или его посадка на какую-либо другую планету не планируется, то третья ступень, как и две первых,используются для увеличения скорости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же корабль должен совершить посадку, то она используется для торможения корабля перед посад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raketa"/>
          <p:cNvPicPr/>
          <p:nvPr/>
        </p:nvPicPr>
        <p:blipFill>
          <a:blip r:embed="rId2"/>
          <a:stretch/>
        </p:blipFill>
        <p:spPr>
          <a:xfrm>
            <a:off x="3132000" y="2060640"/>
            <a:ext cx="240192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tsiolkovsky"/>
          <p:cNvPicPr/>
          <p:nvPr/>
        </p:nvPicPr>
        <p:blipFill>
          <a:blip r:embed="rId2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3"/>
          <p:cNvSpPr txBox="1"/>
          <p:nvPr/>
        </p:nvSpPr>
        <p:spPr>
          <a:xfrm>
            <a:off x="684360" y="26028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0"/>
                <a:gd name="adj2" fmla="val -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Основоположником и теоретиком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космической науки является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Константин Эдуардович Циолковский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57120" y="28584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В 1903 году Константин Эдуардович Циолковский предложил первую конструкцию ракеты для космических полетов на жидком топливе и вывел формулу скорости движения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726000" cy="3886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428760" y="1857240"/>
            <a:ext cx="428616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В 1929 году ученый предложил идею создания ракетных поездов (многоступенчатых рак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357120" y="328608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кий русский учёный и изобретатель, откры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 реактивного движени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ого по праву считают основоположником ракетной тех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4071960"/>
            <a:ext cx="5072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ергей Павлович Королев был крупнейшим конструктором ракетно-космических систем. Под его руководством были осуществлены запуски первых в мире искусственных спутников Земли, Луны и Солнца, первых пилотируемых космических кораблей и первый выход человека из спутника в открытый косм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сканирование0016"/>
          <p:cNvPicPr/>
          <p:nvPr/>
        </p:nvPicPr>
        <p:blipFill>
          <a:blip r:embed="rId2"/>
          <a:srcRect l="4888" t="0" r="6872" b="0"/>
          <a:stretch/>
        </p:blipFill>
        <p:spPr>
          <a:xfrm>
            <a:off x="5357880" y="0"/>
            <a:ext cx="378612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сканирование0018"/>
          <p:cNvPicPr/>
          <p:nvPr/>
        </p:nvPicPr>
        <p:blipFill>
          <a:blip r:embed="rId3"/>
          <a:srcRect l="0" t="6618" r="0" b="0"/>
          <a:stretch/>
        </p:blipFill>
        <p:spPr>
          <a:xfrm>
            <a:off x="214200" y="214200"/>
            <a:ext cx="2928960" cy="3132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214200" y="3357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. П. Королёв (1906 –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fizik_fon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5" descr=""/>
          <p:cNvPicPr/>
          <p:nvPr/>
        </p:nvPicPr>
        <p:blipFill>
          <a:blip r:embed="rId2"/>
          <a:stretch/>
        </p:blipFill>
        <p:spPr>
          <a:xfrm>
            <a:off x="457200" y="401760"/>
            <a:ext cx="8229600" cy="884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сли тело преодолевает силу притяжения Земли и движется по круговой орбите около Земли, то это тело называют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ему равна первая космическая скорость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ему равна вторая космическая скорость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ервый человек, побывавший в космосе и когда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еличина, равная произведению массы тела на его скорость, называется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екторная сумма импульсов тел, составляющих замкнутую систему, не меняется с течением времени при любых движениях и взаимодействиях этих тел. О чём речь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ормула импульса те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атематическая запись закона сохранения импульс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566640" y="1125360"/>
            <a:ext cx="3357720" cy="4967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первые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05520" y="1052280"/>
            <a:ext cx="4038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ий Алексеевич Гаг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апреля 1961 года с космодрома Байконур впервые в мире стартовал космический корабль «Восток» с пилотом-космонавтом Юрием Алексеевичем Гагариным на бо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2"/>
          <a:stretch/>
        </p:blipFill>
        <p:spPr>
          <a:xfrm>
            <a:off x="6929280" y="1143000"/>
            <a:ext cx="2214720" cy="31003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"/>
          <p:cNvSpPr/>
          <p:nvPr/>
        </p:nvSpPr>
        <p:spPr>
          <a:xfrm>
            <a:off x="357120" y="2858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12 апреля 1961 года Юрий Алексеевич Гагарин совершил первый в мире пилотируемый космический полет на корабле-спутнике "Восток-1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42920" y="1428840"/>
            <a:ext cx="5029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анные о "Востоке-1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сса......................................4,73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ериод обращения ...............1 ч. 48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ота над Землей...............327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исло витков.......................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лина траектории.................41 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Гагарин"/>
          <p:cNvPicPr/>
          <p:nvPr/>
        </p:nvPicPr>
        <p:blipFill>
          <a:blip r:embed="rId3"/>
          <a:stretch/>
        </p:blipFill>
        <p:spPr>
          <a:xfrm>
            <a:off x="0" y="4143240"/>
            <a:ext cx="411336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857160" y="35002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«Поехал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сканирование0015"/>
          <p:cNvPicPr/>
          <p:nvPr/>
        </p:nvPicPr>
        <p:blipFill>
          <a:blip r:embed="rId4"/>
          <a:srcRect l="3511" t="6283" r="4414" b="2338"/>
          <a:stretch/>
        </p:blipFill>
        <p:spPr>
          <a:xfrm>
            <a:off x="4286160" y="4290840"/>
            <a:ext cx="3855960" cy="25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42920" y="21420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Первый в мире космический полет, первый в мире космонавт, первый в мире выход в открытый космос, первое в мире "прикосновение" к другим небесным объектам и многое другое первое в мире в деле практического освоения космоса принадлежит нашей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500040" y="2878200"/>
            <a:ext cx="4038480" cy="3979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сканирование0020"/>
          <p:cNvPicPr/>
          <p:nvPr/>
        </p:nvPicPr>
        <p:blipFill>
          <a:blip r:embed="rId3"/>
          <a:srcRect l="0" t="0" r="2790" b="4893"/>
          <a:stretch/>
        </p:blipFill>
        <p:spPr>
          <a:xfrm>
            <a:off x="6143760" y="2222640"/>
            <a:ext cx="300024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е движение называют реактив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ерно ли утверждение: для осуществления    реактивного движения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уется         взаимодействия с окружающей сре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 каком законе основано реактивное дви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т чего зависит скорость рак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Когда и где был запущен первый спутник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22, упр.21 ( 2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1143000" y="428616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пасибо вам за урок! Желаю успех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fizik_fon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5" descr=""/>
          <p:cNvPicPr/>
          <p:nvPr/>
        </p:nvPicPr>
        <p:blipFill>
          <a:blip r:embed="rId2"/>
          <a:stretch/>
        </p:blipFill>
        <p:spPr>
          <a:xfrm>
            <a:off x="450720" y="420840"/>
            <a:ext cx="8412120" cy="884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9 к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11.2 к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гарин Ю.А., 12 апреля 196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пульс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’  +   p’   =        p   +  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   2                       1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fizik_fon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5" descr=""/>
          <p:cNvPicPr/>
          <p:nvPr/>
        </p:nvPicPr>
        <p:blipFill>
          <a:blip r:embed="rId2"/>
          <a:stretch/>
        </p:blipFill>
        <p:spPr>
          <a:xfrm>
            <a:off x="-6480" y="26820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1000080" y="0"/>
            <a:ext cx="2819520" cy="1409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"/>
          <p:cNvSpPr/>
          <p:nvPr/>
        </p:nvSpPr>
        <p:spPr>
          <a:xfrm>
            <a:off x="357120" y="1285920"/>
            <a:ext cx="50054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Все виды движения невозможны без взаимодействия тел данной системы с окружающей средой. А для осуществления реактивного движения не требуется взаимодействия тела с окружающей средо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3357720" y="5357880"/>
            <a:ext cx="2133360" cy="1293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5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5" descr=""/>
          <p:cNvPicPr/>
          <p:nvPr/>
        </p:nvPicPr>
        <p:blipFill>
          <a:blip r:embed="rId2"/>
          <a:stretch/>
        </p:blipFill>
        <p:spPr>
          <a:xfrm>
            <a:off x="-6480" y="2451240"/>
            <a:ext cx="7772400" cy="828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357120" y="171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активное дви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единственный вид движения, который может осуществляться без взаимодействия с окружающей сред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3124080" y="4952880"/>
            <a:ext cx="20574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fizik_fon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5" descr=""/>
          <p:cNvPicPr/>
          <p:nvPr/>
        </p:nvPicPr>
        <p:blipFill>
          <a:blip r:embed="rId2"/>
          <a:stretch/>
        </p:blipFill>
        <p:spPr>
          <a:xfrm>
            <a:off x="-6480" y="2682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Демонстрация реактив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522520" cy="4876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916360" y="1761840"/>
            <a:ext cx="590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ы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уть резиновый шарик и отпустить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счёт чего шарик приходит в движ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ик приходит в движение за счёт того, что из него выходит воздух, то есть движение шар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примером реактив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6"/>
          <p:cNvSpPr/>
          <p:nvPr/>
        </p:nvSpPr>
        <p:spPr>
          <a:xfrm rot="10189200">
            <a:off x="1547280" y="2276280"/>
            <a:ext cx="576360" cy="5029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 rot="2476200">
            <a:off x="1979280" y="0"/>
            <a:ext cx="180036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10"/>
          <p:cNvCxnSpPr>
            <a:stCxn id="116" idx="4"/>
          </p:cNvCxnSpPr>
          <p:nvPr/>
        </p:nvCxnSpPr>
        <p:spPr>
          <a:xfrm rot="5400000">
            <a:off x="147600" y="2443680"/>
            <a:ext cx="2050200" cy="1702440"/>
          </a:xfrm>
          <a:prstGeom prst="curvedConnector5">
            <a:avLst>
              <a:gd name="adj1" fmla="val 64436"/>
              <a:gd name="adj2" fmla="val 50000"/>
              <a:gd name="adj3" fmla="val 64436"/>
            </a:avLst>
          </a:prstGeom>
          <a:ln w="19080">
            <a:solidFill>
              <a:srgbClr val="ff5050"/>
            </a:solidFill>
            <a:miter/>
          </a:ln>
        </p:spPr>
      </p:cxnSp>
      <p:sp>
        <p:nvSpPr>
          <p:cNvPr id="118" name="Text Box 12"/>
          <p:cNvSpPr/>
          <p:nvPr/>
        </p:nvSpPr>
        <p:spPr>
          <a:xfrm>
            <a:off x="2412720" y="98100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 rot="2476200">
            <a:off x="3708000" y="1483920"/>
            <a:ext cx="129708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 rot="13360800">
            <a:off x="3340080" y="3600000"/>
            <a:ext cx="216000" cy="505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6"/>
          <p:cNvSpPr/>
          <p:nvPr/>
        </p:nvSpPr>
        <p:spPr>
          <a:xfrm rot="21465600">
            <a:off x="1270080" y="3954240"/>
            <a:ext cx="2160360" cy="187308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641" h="911">
                <a:moveTo>
                  <a:pt x="585" y="0"/>
                </a:moveTo>
                <a:cubicBezTo>
                  <a:pt x="519" y="7"/>
                  <a:pt x="456" y="18"/>
                  <a:pt x="390" y="26"/>
                </a:cubicBezTo>
                <a:cubicBezTo>
                  <a:pt x="367" y="60"/>
                  <a:pt x="331" y="87"/>
                  <a:pt x="297" y="110"/>
                </a:cubicBezTo>
                <a:cubicBezTo>
                  <a:pt x="261" y="165"/>
                  <a:pt x="302" y="110"/>
                  <a:pt x="254" y="153"/>
                </a:cubicBezTo>
                <a:cubicBezTo>
                  <a:pt x="171" y="227"/>
                  <a:pt x="235" y="185"/>
                  <a:pt x="178" y="220"/>
                </a:cubicBezTo>
                <a:cubicBezTo>
                  <a:pt x="121" y="308"/>
                  <a:pt x="211" y="179"/>
                  <a:pt x="127" y="263"/>
                </a:cubicBezTo>
                <a:cubicBezTo>
                  <a:pt x="121" y="269"/>
                  <a:pt x="125" y="281"/>
                  <a:pt x="119" y="288"/>
                </a:cubicBezTo>
                <a:cubicBezTo>
                  <a:pt x="105" y="305"/>
                  <a:pt x="83" y="315"/>
                  <a:pt x="68" y="331"/>
                </a:cubicBezTo>
                <a:cubicBezTo>
                  <a:pt x="57" y="365"/>
                  <a:pt x="63" y="357"/>
                  <a:pt x="34" y="390"/>
                </a:cubicBezTo>
                <a:cubicBezTo>
                  <a:pt x="26" y="399"/>
                  <a:pt x="0" y="407"/>
                  <a:pt x="9" y="415"/>
                </a:cubicBezTo>
                <a:cubicBezTo>
                  <a:pt x="18" y="423"/>
                  <a:pt x="32" y="405"/>
                  <a:pt x="43" y="398"/>
                </a:cubicBezTo>
                <a:cubicBezTo>
                  <a:pt x="63" y="385"/>
                  <a:pt x="82" y="370"/>
                  <a:pt x="102" y="356"/>
                </a:cubicBezTo>
                <a:cubicBezTo>
                  <a:pt x="127" y="338"/>
                  <a:pt x="154" y="324"/>
                  <a:pt x="178" y="305"/>
                </a:cubicBezTo>
                <a:cubicBezTo>
                  <a:pt x="214" y="276"/>
                  <a:pt x="238" y="250"/>
                  <a:pt x="280" y="229"/>
                </a:cubicBezTo>
                <a:cubicBezTo>
                  <a:pt x="300" y="199"/>
                  <a:pt x="328" y="183"/>
                  <a:pt x="348" y="153"/>
                </a:cubicBezTo>
                <a:cubicBezTo>
                  <a:pt x="327" y="250"/>
                  <a:pt x="247" y="291"/>
                  <a:pt x="187" y="364"/>
                </a:cubicBezTo>
                <a:cubicBezTo>
                  <a:pt x="164" y="392"/>
                  <a:pt x="75" y="524"/>
                  <a:pt x="34" y="551"/>
                </a:cubicBezTo>
                <a:cubicBezTo>
                  <a:pt x="28" y="562"/>
                  <a:pt x="6" y="580"/>
                  <a:pt x="17" y="585"/>
                </a:cubicBezTo>
                <a:cubicBezTo>
                  <a:pt x="30" y="591"/>
                  <a:pt x="39" y="567"/>
                  <a:pt x="51" y="559"/>
                </a:cubicBezTo>
                <a:cubicBezTo>
                  <a:pt x="117" y="517"/>
                  <a:pt x="52" y="574"/>
                  <a:pt x="127" y="508"/>
                </a:cubicBezTo>
                <a:cubicBezTo>
                  <a:pt x="222" y="425"/>
                  <a:pt x="79" y="535"/>
                  <a:pt x="229" y="441"/>
                </a:cubicBezTo>
                <a:cubicBezTo>
                  <a:pt x="300" y="396"/>
                  <a:pt x="363" y="344"/>
                  <a:pt x="432" y="297"/>
                </a:cubicBezTo>
                <a:cubicBezTo>
                  <a:pt x="370" y="418"/>
                  <a:pt x="271" y="507"/>
                  <a:pt x="195" y="619"/>
                </a:cubicBezTo>
                <a:cubicBezTo>
                  <a:pt x="184" y="636"/>
                  <a:pt x="173" y="653"/>
                  <a:pt x="161" y="669"/>
                </a:cubicBezTo>
                <a:cubicBezTo>
                  <a:pt x="137" y="701"/>
                  <a:pt x="85" y="763"/>
                  <a:pt x="85" y="763"/>
                </a:cubicBezTo>
                <a:cubicBezTo>
                  <a:pt x="79" y="777"/>
                  <a:pt x="76" y="792"/>
                  <a:pt x="68" y="805"/>
                </a:cubicBezTo>
                <a:cubicBezTo>
                  <a:pt x="62" y="815"/>
                  <a:pt x="49" y="820"/>
                  <a:pt x="43" y="830"/>
                </a:cubicBezTo>
                <a:cubicBezTo>
                  <a:pt x="37" y="840"/>
                  <a:pt x="22" y="864"/>
                  <a:pt x="34" y="864"/>
                </a:cubicBezTo>
                <a:cubicBezTo>
                  <a:pt x="52" y="864"/>
                  <a:pt x="62" y="840"/>
                  <a:pt x="77" y="830"/>
                </a:cubicBezTo>
                <a:cubicBezTo>
                  <a:pt x="126" y="797"/>
                  <a:pt x="97" y="830"/>
                  <a:pt x="153" y="788"/>
                </a:cubicBezTo>
                <a:cubicBezTo>
                  <a:pt x="226" y="732"/>
                  <a:pt x="301" y="676"/>
                  <a:pt x="373" y="619"/>
                </a:cubicBezTo>
                <a:cubicBezTo>
                  <a:pt x="419" y="583"/>
                  <a:pt x="447" y="556"/>
                  <a:pt x="500" y="534"/>
                </a:cubicBezTo>
                <a:cubicBezTo>
                  <a:pt x="506" y="525"/>
                  <a:pt x="517" y="498"/>
                  <a:pt x="517" y="508"/>
                </a:cubicBezTo>
                <a:cubicBezTo>
                  <a:pt x="517" y="529"/>
                  <a:pt x="485" y="610"/>
                  <a:pt x="475" y="627"/>
                </a:cubicBezTo>
                <a:cubicBezTo>
                  <a:pt x="420" y="722"/>
                  <a:pt x="344" y="794"/>
                  <a:pt x="280" y="881"/>
                </a:cubicBezTo>
                <a:cubicBezTo>
                  <a:pt x="277" y="890"/>
                  <a:pt x="263" y="911"/>
                  <a:pt x="271" y="907"/>
                </a:cubicBezTo>
                <a:cubicBezTo>
                  <a:pt x="286" y="900"/>
                  <a:pt x="301" y="860"/>
                  <a:pt x="314" y="847"/>
                </a:cubicBezTo>
                <a:cubicBezTo>
                  <a:pt x="381" y="780"/>
                  <a:pt x="430" y="707"/>
                  <a:pt x="483" y="627"/>
                </a:cubicBezTo>
                <a:cubicBezTo>
                  <a:pt x="529" y="558"/>
                  <a:pt x="562" y="501"/>
                  <a:pt x="593" y="424"/>
                </a:cubicBezTo>
                <a:cubicBezTo>
                  <a:pt x="597" y="413"/>
                  <a:pt x="636" y="337"/>
                  <a:pt x="636" y="331"/>
                </a:cubicBezTo>
                <a:cubicBezTo>
                  <a:pt x="641" y="226"/>
                  <a:pt x="636" y="122"/>
                  <a:pt x="636" y="1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2484360" y="1052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203000" y="243360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712240" y="409896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р</a:t>
            </a: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2782800" y="4243320"/>
            <a:ext cx="2872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4294080" y="25858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472000" y="476280"/>
            <a:ext cx="36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масса ша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масса воздуха в шар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скорость ша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скорость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 = р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 р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6588000" y="2781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7164360" y="2781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7740720" y="2781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6588000" y="31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>
            <a:off x="7596360" y="31417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7885080" y="35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6732720" y="35002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-357120"/>
            <a:ext cx="9144000" cy="5543640"/>
          </a:xfrm>
          <a:custGeom>
            <a:avLst/>
            <a:gdLst>
              <a:gd name="textAreaLeft" fmla="*/ 0 w 9144000"/>
              <a:gd name="textAreaRight" fmla="*/ 9144360 w 9144000"/>
              <a:gd name="textAreaTop" fmla="*/ 718560 h 5543640"/>
              <a:gd name="textAreaBottom" fmla="*/ 482508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ытекающая из сосуда коническ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через сообщающуюся с ним изогнутую труб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ращает сосуд в направле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ротивоположном скорости воды в струя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 видим, что реактивное действие оказы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только струя газ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 и струя жид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6854760" y="3481560"/>
            <a:ext cx="2289240" cy="33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07:49:55Z</dcterms:created>
  <dc:creator>Belenino</dc:creator>
  <dc:description/>
  <dc:language>en-US</dc:language>
  <cp:lastModifiedBy>DNA7 X86</cp:lastModifiedBy>
  <dcterms:modified xsi:type="dcterms:W3CDTF">2016-12-27T17:00:19Z</dcterms:modified>
  <cp:revision>12</cp:revision>
  <dc:subject/>
  <dc:title>Слайд 1</dc:title>
</cp:coreProperties>
</file>